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841E-1100-43DA-B2CA-568E413AA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21B0-7047-4516-8C82-71A7CC5F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D39A-6A33-49EF-BC4C-FB21E7F7A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570A-4858-4851-AF9F-64349801E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4739-DC00-46AE-9CCD-C9161CD0A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76CA-BE84-4988-92BA-D754E908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2A60-12A2-45AE-930B-EA94082D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E369-B5C1-4ACA-A9E0-86A7B690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6CE6-91DD-43AC-A101-37422C0C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05FA-0A2F-4910-A7C5-0388A213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811B-628D-4C92-B1D2-2A777FE3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4020-D077-4D84-892A-7B7879E8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7EA5-8ECB-4A0B-A79D-8DD3F6C3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36B9-A5DE-4395-A607-C4257DFE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8162A-4FF9-47E2-98C5-C7844E89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C249-B6EC-4B02-9239-670A59A27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A6D0-A0FB-4BC2-B819-EB66E0F3E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E072-633E-4934-907C-CC90CE81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ABC5-54AF-4C3C-B172-49100D26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B478-19E8-437A-89B9-D58A58DD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22C8-6B24-4133-A9FA-1B4EBCC4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B505-C992-465D-8BB4-37FAC619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A57D-46CD-46EC-9CFC-FDF4D81A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2038-8431-4A96-8D0D-7823D657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36EF-E1A9-4B73-8685-7CC74BB8377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8CA0-158A-4E96-9A1F-04E0715400E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hyperlink" Target="http://www.google.com/imgres?imgurl=http://www.istockphoto.com/file_thumbview_approve/3712750/2/istockphoto_3712750-african-animals.jpg&amp;imgrefurl=http://www.istockphoto.com/stock-illustration-3712750-african-animals.php&amp;usg=__oaMv8c2qvdXYKGN5GhC_KqJP8b0=&amp;h=380&amp;w=380&amp;sz=56&amp;hl=en&amp;start=10&amp;itbs=1&amp;tbnid=NYRQ2TrYseLvZM:&amp;tbnh=123&amp;tbnw=123&amp;prev=/images%3Fq%3Danimals%26hl%3Den%26safe%3Dactive%26gbv%3D2%26tbs%3Disch:1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hyperlink" Target="http://www.google.com/imgres?imgurl=http://www.appleiphoneschool.com/wp-content/uploads/2008/04/iphone_colors.png&amp;imgrefurl=http://www.appleiphoneschool.com/2008/04/02/iphones-sold-out/&amp;usg=__Kb3tZ8UCVvA4JTeNHJ4-SoiwxMI=&amp;h=448&amp;w=400&amp;sz=143&amp;hl=en&amp;start=15&amp;itbs=1&amp;tbnid=tU68h5uTzUteEM:&amp;tbnh=127&amp;tbnw=113&amp;prev=/images%3Fq%3Dcolors%26hl%3Den%26safe%3Dactive%26gbv%3D2%26tbs%3Disch:1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oogle.com/imgres?imgurl=http://www.multileveler.com/uploads/numbers.jpg&amp;imgrefurl=http://www.weblo.com/property/real_estate/Numbers/2054808/&amp;usg=__4nXYsDrLqYXmD-oyNJQEta1cUDc=&amp;h=437&amp;w=600&amp;sz=94&amp;hl=en&amp;start=8&amp;itbs=1&amp;tbnid=odCb8T4wveu4-M:&amp;tbnh=98&amp;tbnw=135&amp;prev=/images%3Fq%3Dnumbers%26hl%3Den%26safe%3Dactive%26gbv%3D2%26tbs%3Disch:1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hyperlink" Target="http://www.google.com/imgres?imgurl=http://questgarden.com/27/13/1/060717192931/images/seasons-tree.jpg&amp;imgrefurl=http://questgarden.com/27/13/1/060717192931/index.htm&amp;usg=__DQOqIj8ZYnVvLFqCUh4ukMX_4BU=&amp;h=482&amp;w=360&amp;sz=64&amp;hl=en&amp;start=6&amp;itbs=1&amp;tbnid=s91wJiLmXBK8DM:&amp;tbnh=129&amp;tbnw=96&amp;prev=/images%3Fq%3Dseasons%26hl%3Den%26safe%3Dactive%26gbv%3D2%26tbs%3Disch:1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La Clase De Espanol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ennifer Pantoja Pare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638680" y="4191120"/>
            <a:ext cx="2667240" cy="212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Las Animales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2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efan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a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jar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645080" y="1752480"/>
            <a:ext cx="3922560" cy="4267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24382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s color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2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oj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ranj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miril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zu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urpul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5080" y="1752480"/>
            <a:ext cx="3922560" cy="4267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2209680"/>
            <a:ext cx="290664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os Numer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2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o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o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re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uat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inc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eti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ch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uev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5080" y="1752480"/>
            <a:ext cx="3922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76920" y="2590920"/>
            <a:ext cx="335268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s Estas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2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vern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imaver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eran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ton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45080" y="1752480"/>
            <a:ext cx="3922560" cy="4267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1523880"/>
            <a:ext cx="3886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5:26:46Z</dcterms:created>
  <dc:creator>WSFCS Workstation</dc:creator>
  <dc:description/>
  <dc:language>en-US</dc:language>
  <cp:lastModifiedBy>WSFCS Workstation</cp:lastModifiedBy>
  <dcterms:modified xsi:type="dcterms:W3CDTF">2010-04-26T15:58:26Z</dcterms:modified>
  <cp:revision>4</cp:revision>
  <dc:subject/>
  <dc:title>La Clase De Espanol </dc:title>
</cp:coreProperties>
</file>